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D6A72B-4C75-4630-B616-9B178FBFA4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12F12B-D6EE-4823-9A54-D3CD521E387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D4AA1-C95E-4CA6-8FC4-351870E97E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A9F815-B641-4646-932C-2B3A4A5B07F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8FA8F-02E6-46D6-AC1A-6E42761584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260609-47B1-40AF-8A8C-08C28FC857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52FA14-8ECA-4535-88F9-7CBF5F2AB0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61A08E-33F8-4104-8946-E9DC87BBE71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834300-227B-431C-B5E7-C8892BEE017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EB4CE-1264-471B-A864-39DF62218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C0BB6-B60D-4FBA-96D6-4D2D6776BF7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7C0F6-DDB1-4429-B75C-E30EA52CB87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514B7-A2F0-4541-ABED-EF11DCC55E6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A6502-380D-48C7-8F5F-A35F5E13A7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9C77-2570-445D-8664-1BBBAF5941F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4B683-DD03-48CA-823C-30D2F7B3BBA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15CE-6550-4FD7-8A0D-D9154489DE2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35DD3-E761-41F5-8965-23EE09BB069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77380-6DC4-481D-8AB4-FBFC3E509C8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FD3F4-0CB1-42DA-AF15-7514794C7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1D783-75DA-4B3F-9BB7-0CA7EB176CC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44476-5830-48E6-B8ED-408616BE3E0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594C7-380C-4162-AE9D-B847269DC95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BFFD4-6D39-4D3E-A3D0-FF11F3F6B36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B61F3-89BC-49C9-A578-A692BE3F8F2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B9296-C13E-414D-9174-4277C9F8DBD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C7351-8856-4569-AAFF-BEEB6B1B64D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C32BE-C3BE-402C-A028-557541388B9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E13A1C-7E25-45CD-B2AE-AEE0E4C0A41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84E7C-DD2E-4DB1-BCEF-E763AFCF4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C294-F3A6-472C-9209-2CAEF84932C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84112-6178-41E5-90BA-59AECD39B6F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1CB9E-8458-4F73-80B7-31FBDC4D37F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A48A1-00E3-40AA-9720-8DA7F02537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985F-BFFF-469F-9E40-F5C2ED9490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85C7-5879-4EFE-994E-88DB42CE57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8C28-7CCF-4B23-A022-BBD0331837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AED2-37CC-44DB-A32D-7426213FB6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216F-B9D1-4F08-86F2-A1AAEB7031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5AB3-29AD-4DE1-9160-3A630AA77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6622-A678-4D35-B0C4-4371C71187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F0FB-8F9D-4C3D-91D5-4D2B64DF6E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352A-D2B1-42AF-8908-5EE5800B7C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5D12-DCF9-4762-A703-415640D12C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45AB-26EB-408B-9E5F-D18861C67E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D8A80-6389-4DD6-900B-9A8947D91C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37A54-19A8-4438-AB11-CC163C1ACE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9A608-5B06-436F-B71A-7910F63594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AA3B9-86E7-493F-8051-490A7110C9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3E7A3-5355-4B29-B3B7-BC26A8EB8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B3D3B-95B8-4540-BFAD-E46E97CB8C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2BF2F-1798-4DEA-ACAA-E8BBF54ADF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0629A-A7A7-4B72-9F8E-9543BA3600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37A9A-0317-4784-B365-073A7E8CE4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8D00E-9F18-4031-AA6F-8EB87DDD4F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27609-1012-43D3-9B7C-1474B91846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3B04B-C6ED-4479-A620-5A642741AF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38E3-D70F-42CE-B399-0B10154817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A350-F7D1-4D9F-9B98-E957B52B32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5715-21FB-41BD-9906-B5403CA7B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9CC5-0006-4A31-8015-E96A0D8F9C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0B69-BBD8-442E-91F5-7F59A4483A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76C5-EFF3-469E-9810-E4CD933AD8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475-F9CA-4B33-B302-9E463AA674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06A2-B1FF-46A1-BBA4-5CA0A9AFE1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F47-EB37-44C8-885A-3292CECBAD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1727-C88B-429D-BCF6-0D472DF725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F163-6966-42B1-A784-B589DF72F6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E2C0-87CE-4860-8A1C-381A5F97F88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83925-2D54-428B-A6C7-498E2CA2F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86BF8-B303-43F2-AE03-A4470B14ACE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503EE-1A28-42FE-8D60-FE9B4A4B08A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1A2D8-8180-40B3-9EF7-49C0D9CC39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5832A-6E27-4533-8573-15569A2467B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5C118-A099-42B1-A0E2-6742055417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EA017-117B-41D0-B8DB-99D5DD8A4A7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37400-0DF5-4668-BEF7-24F252D9C8E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232C0-B43B-407A-B4D9-F6D35009FE6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E0D6B-98C7-4542-A1FD-8697AB19B73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AD545-4830-4572-B5A4-F5B897757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24B89-4AC8-4017-B957-01DB73563C5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18F37-9A8E-40D8-BED0-E64E0951EC2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4EEFF-B48E-4DE3-AC80-B7AA69DDA8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851CB6-3C22-4EED-B55E-CC1D836E5A8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DA559-BC62-4F2A-A271-861C4ACAE2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AB97F-4C67-4F78-ADE2-F2EFD54D28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6A183-74BA-4016-91EB-7AE1E518D9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1D779-9457-4866-9262-5A160B86C3E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BD892-E9E7-44E5-AA7D-EBDB4FF311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434BC-A790-4FA3-A848-F43522144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125AD-C965-4745-866B-62B8BCA3B8F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FBE3A-A197-4AE8-8742-A043F0E85A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6139F-80FC-44E3-B1DC-D55B31BEED0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37FA-21CA-46CD-8F57-A2131649F0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09A6-41FD-4D6B-A859-78C3501375E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277E2-4B99-4814-B062-483C2339EF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B1A12-4744-4FE5-9F81-8125A6FE9E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6FCF7-DC16-4129-B058-EDAAFDD2EA8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69A2-F8BE-45CA-9A62-EBCEB6F774B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86443-0408-4530-82AF-1F0F2984F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D224-5E8E-4AC7-820D-56E78317F04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7446-D2EF-482D-9D73-D2A6E0EBC7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C7CE7-0822-4595-8E28-A38EF2C9F6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BBC3-9A0E-4994-BB72-4580EBBDD1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9EB0D-6A26-4EE2-845E-164A2B3257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92D0D-2C46-4F02-86F2-BD7EAC15C35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B69CF-170A-4B8F-9665-82C0A7F6BC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716B6-059E-42E1-8A86-7EB9193069A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EE5D5-F449-4723-93CF-6C3E39F3722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1F143-17C6-4ABD-87E3-F3ED0C02B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0903D-8ECA-484B-AC97-8B3FF899651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52B12-E9A0-4592-A8B2-BD2908ABFD2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DFAA5-52F6-441F-9B97-88C3343176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5E0517-4337-4598-BAD8-5D86B64DE57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CD3CD-4F07-4254-8D18-95054EEFB88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D76E6-029F-4E6C-914D-4DD7B3CFE6B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ECF88-BA5A-4D73-A0D3-515DB6C73E9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CDC64-6BCD-48DA-BE77-B30BFEA894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EC8184-1AC3-4229-BAAE-A87DF96C06B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B0D944-5B18-478B-8C57-099045BB5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2831-E5A4-4520-AEEA-F4A2EEF8AB3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1CB5-6BB8-474C-AF26-134B3B44725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6098-B5F1-4CC8-97F6-314EFB764B8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130D-EB90-4BD0-B978-34BA0FADE34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6F41-3AF2-41B5-B10E-F900376AF4A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405B-1259-4F83-BD4D-E411DEB121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33C8-418B-4EF1-B7E8-E386D47159D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29DF-13BD-4B3B-8372-D53790114D8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CAE3-D5F5-497A-A984-D675A9A9A1D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D66F-D587-47B8-AF8B-5C17FE874DA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Colore e Percezion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ssa Cristina Boer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90 Polimi + 1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800" y="15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Umanist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Il corso affronta alcuni degli aspetti fondamentali della percezione del colore sia da un punto di vista teorico che pratico progettuale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Accanto ad un inquadramento teorico, storico e progettuale, i temi sviluppati all’interno del corso verranno esplorati e contestualizzati attraverso una serie di piccole esercitazioni ed esemplificazioni progettuali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991800" y="15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Umanist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razioni del colore: colore e colore, colore e luce, colore e materia, colore e forma, colore e posizione, distanza e dimension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Relazioni tra i colori: accordi, armonie, contrast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Sistematizzazione del colore: cerchi e sistemi cromatici, primari generatori, culturali e fisiologic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Colore materiale e immateriale: colore superficie, filmare e volume, aspetti psicosensoriali e sinestesic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Colore e progetto: aspetti ergonomici, psicofisiologici, percettivi, culturali, …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Cristina Boeri</cp:lastModifiedBy>
  <cp:lastPrinted>2003-05-08T11:08:41Z</cp:lastPrinted>
  <dcterms:modified xsi:type="dcterms:W3CDTF">2014-07-09T12:05:15Z</dcterms:modified>
  <cp:revision>210</cp:revision>
  <dc:subject/>
  <dc:title>Inserire immagine della locandina, possibilmente in trasparenza e aggiungere Facoltà di Architettura Illustrazione prova di ammissione prof. Silvia Piardi (idem Cedolin)</dc:title>
</cp:coreProperties>
</file>